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4799-9CF3-4164-891B-FFB64BBF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, formula, sunny, draf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student knowledge is forming, we need to be careful to explain those misconceptions on how to use the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AC4-414E-4B47-B3DB-92C13942A36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E86-ECC3-4DC4-9940-FB933FFE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E3C-EEE4-48E1-982C-4CD79E92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FE1-7F34-409D-9269-4FD4E4B8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509-DB34-4316-9A58-DA09072C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F536-99B4-4B83-B03D-3560CFC8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A564-7C1F-414E-8BF9-51D8BCD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DA7-9E12-42EF-87B6-C3C39D4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297-C4E1-4698-B0C1-275225D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7C5-BC96-4070-90CE-08EECC6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6AF2-FBBF-4A9C-B3FE-606DFF7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BD42-D8C8-4B5F-97B8-651C038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54C-D765-44FA-97F6-C84516F4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052B-6974-4048-874D-6BC4585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5643-FA77-48F4-A5F9-D971EB2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D11-B2BC-4049-8802-5DCB321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AE9A-B114-4413-A70F-8F216C0A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57E-1EAF-4897-B7EA-A42D4235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F99-37AB-441C-996A-4D1402FF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7F3-25F9-400B-A723-BB60FD7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9C1-877F-4518-AD0F-73B3729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98B-A1C7-44A1-86C4-984F0D64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739-411A-4E81-9BC7-411379B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973-DD36-4A33-B4EF-59CD4E5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52F-0C39-43DB-842C-86DDB73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424-0EB0-46CA-85B6-05304C6869D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FBE-F2CB-490F-AAF6-637AD8E7978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cabular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echnology Paired with Instructional Strategies to Increase Academic Language U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ra Kiera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linda Grim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ing Students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ocabul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creased engagement = increased comprehension and reten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ear it…mode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s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 writ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 speaking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&amp; Academic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ing the wo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language of direc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ords with multiple meaning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tent-specific languag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-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57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uld range from Elmo and projection syste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SMART or Promethean Bo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a set of devices (if not enough devices for 1:1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 1:1 de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ptop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Pa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able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ing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dle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ord Clou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ordsift…much more than just a word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isual Thesaurus (app and web $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xipedia (web-free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mantic webbing, semantic gradi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kitch, comic strip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and Spe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arage Ba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sca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dca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ublishing podca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active white boar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ducre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mia Teac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7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uthentic Audience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een Ink magazin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Blogs…edublogs, blogspot, kidblog, weeb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Word Hippo and Rhyme Zone (web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Vocabulary Squares, Frayer Model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kitch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vernot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Graphic organiz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Vocabulary Trading Card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favorite vocabular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ademic Language Toolkit from Stillwater Schoo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eeRice.Com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aura Kieran, laura.kieran@drake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linda Grimm, mj-grimm@wiu.edu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23:20:51Z</dcterms:created>
  <dc:creator>gc0375402</dc:creator>
  <dc:description/>
  <dc:language>en-US</dc:language>
  <cp:lastModifiedBy>Laura Kieran</cp:lastModifiedBy>
  <dcterms:modified xsi:type="dcterms:W3CDTF">2014-09-28T02:58:46Z</dcterms:modified>
  <cp:revision>67</cp:revision>
  <dc:subject/>
  <dc:title>Historical perspectives in  Special Education:</dc:title>
</cp:coreProperties>
</file>